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66C4-9FB6-4BDA-81CE-BCDB5FCE9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5041-9618-4567-A46D-6841254C95B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4004-E0B0-4B9A-83DC-5A0D33E3F69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EF97-06B8-42AF-94F1-615F13DA1AF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238A-7B9D-4E55-A7DD-95F204983C7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7A4E-FEB6-4347-B415-EF81D915420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BB8E-581E-4686-93A3-66A1647CC36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8088-50B2-402F-B022-8F8AAB93900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91E9-47CE-41E4-B4C4-89558211734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6E0F-EC8A-440E-BC91-6891917AADF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585E-49BD-412F-9F1C-AAD7D9529ED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E948-030A-4F2A-8E02-666E43DAEA2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2CC1-7DA7-444D-B2E1-98C9CFEA6E7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C76B-282B-4074-9671-67E3B3AD0B9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B1B8-1FAC-4692-BA3C-7100194DDFE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A46-024C-40AC-B8DB-25442D6B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B11-9D2F-4C9F-837A-8D3D3CCE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D08-3D80-4F80-9DE5-80CCE42B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8068-8A03-499C-8CF2-0C926133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E4A3-D07C-4F32-B71C-08433722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3ED7-090A-4757-804F-8EC9DBE3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84B3-DEE7-4796-8EC2-6D679E01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446B-9789-4EA9-AEEB-57AF25F9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FE61-B827-4CD0-91DC-9EC2DD2F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D98E-8C76-48A9-A684-70EF9DD9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AF62-B25E-4778-83A1-33984023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D89-777E-4F70-84CE-CDC1426D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E8C3-13F1-434D-86BB-2059E36C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6639-95FE-47D9-B6C4-A9860F5A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57B7-508F-4EDF-8149-DFB9F507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87A7-2E3A-4D5E-8B64-7A8268F9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C1C0-B06C-42D6-85F4-B0C27395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FA7-E845-4148-8A88-CB573143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D5E-61DB-4BC6-9953-C7A818F9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87D-9CEA-4117-868A-7A836CB5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698-AC09-40CF-95FA-10F3B294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659-8EA8-4A1E-80BD-2BA60AC7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74B-31AA-4DD3-8A3B-C9D601E2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34C-2FED-4277-B970-95087B44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4A64-81E3-4A54-B18B-495AFCFF4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DADA-9867-486B-85BA-0E8AC3F28C1F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ommunication/Grade/Email Session 3 of y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Attachments in eChalk Email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ry I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nd an email to your partn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ttach the document you wrote in the beginning of the sessi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en you receive your partner’s email in your inbox, how can you tell it has an attachment?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pen or save the file you’ve been sen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3581280" y="4648320"/>
            <a:ext cx="60984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problems might teachers have sending and receiving attachments? (And how can you help them?)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ow can I support others in sending and receiving attachments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I support others in sending and receiving attachment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12164"/>
                </a:solidFill>
                <a:latin typeface="Arial"/>
              </a:rPr>
              <a:t>Today we will learn how to: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Use eChalk email to: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end an attachmen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Open an attachmen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attachments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en might a student need an attachment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en might a teacher need an attachment?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12164"/>
                </a:solidFill>
                <a:latin typeface="Arial"/>
              </a:rPr>
              <a:t>To get ready for today: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Open a new Word documen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Answer this question: “What is your favorite part of being an iSquader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ave the document.  Be sure you know where you saved it!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ending an Attachmen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5867280" cy="2889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685800" y="2133720"/>
            <a:ext cx="2666880" cy="36828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d5c5"/>
                </a:solidFill>
                <a:latin typeface="Arial"/>
              </a:rPr>
              <a:t>1.  Go to Write Mail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3733920" y="2286000"/>
            <a:ext cx="2590560" cy="36828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d5c5"/>
                </a:solidFill>
                <a:latin typeface="Arial"/>
              </a:rPr>
              <a:t>2.  Address the email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3048120" y="3200400"/>
            <a:ext cx="2666880" cy="6426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3.  Click Attach Files (you can use either link)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1371600" y="5867280"/>
            <a:ext cx="5715000" cy="3682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4.  Don’t forget to include a subject and message!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4" name="Picture 5" descr="C:\Program Files\Microsoft Office\MEDIA\OFFICE12\Bullets\BD21298_.gif"/>
          <p:cNvPicPr/>
          <p:nvPr/>
        </p:nvPicPr>
        <p:blipFill>
          <a:blip r:embed="rId2"/>
          <a:stretch/>
        </p:blipFill>
        <p:spPr>
          <a:xfrm rot="6512400">
            <a:off x="1260720" y="2678760"/>
            <a:ext cx="614520" cy="371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Program Files\Microsoft Office\MEDIA\OFFICE12\Bullets\BD21298_.gif"/>
          <p:cNvPicPr/>
          <p:nvPr/>
        </p:nvPicPr>
        <p:blipFill>
          <a:blip r:embed="rId3"/>
          <a:stretch/>
        </p:blipFill>
        <p:spPr>
          <a:xfrm rot="8346600">
            <a:off x="2614320" y="3661920"/>
            <a:ext cx="317520" cy="192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Program Files\Microsoft Office\MEDIA\OFFICE12\Bullets\BD21298_.gif"/>
          <p:cNvPicPr/>
          <p:nvPr/>
        </p:nvPicPr>
        <p:blipFill>
          <a:blip r:embed="rId4"/>
          <a:stretch/>
        </p:blipFill>
        <p:spPr>
          <a:xfrm rot="13665600">
            <a:off x="2582280" y="3184200"/>
            <a:ext cx="36684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57200" y="1725480"/>
            <a:ext cx="4476600" cy="3913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ending an Attachmen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5715000" y="4800600"/>
            <a:ext cx="3048120" cy="17398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12164"/>
                </a:solidFill>
                <a:latin typeface="Arial"/>
              </a:rPr>
              <a:t>*If you want to attach multiple files, repeat steps 1 &amp; 2 before step 3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Your attachments will be listed below the subject line in the write screen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0" name="Picture 5" descr="C:\Program Files\Microsoft Office\MEDIA\OFFICE12\Bullets\BD21298_.gif"/>
          <p:cNvPicPr/>
          <p:nvPr/>
        </p:nvPicPr>
        <p:blipFill>
          <a:blip r:embed="rId2"/>
          <a:stretch/>
        </p:blipFill>
        <p:spPr>
          <a:xfrm>
            <a:off x="1871640" y="5257800"/>
            <a:ext cx="614520" cy="371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Program Files\Microsoft Office\MEDIA\OFFICE12\Bullets\BD21298_.gif"/>
          <p:cNvPicPr/>
          <p:nvPr/>
        </p:nvPicPr>
        <p:blipFill>
          <a:blip r:embed="rId3"/>
          <a:stretch/>
        </p:blipFill>
        <p:spPr>
          <a:xfrm rot="12630000">
            <a:off x="1429920" y="3729960"/>
            <a:ext cx="701640" cy="423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Program Files\Microsoft Office\MEDIA\OFFICE12\Bullets\BD21298_.gif"/>
          <p:cNvPicPr/>
          <p:nvPr/>
        </p:nvPicPr>
        <p:blipFill>
          <a:blip r:embed="rId4"/>
          <a:stretch/>
        </p:blipFill>
        <p:spPr>
          <a:xfrm rot="7945800">
            <a:off x="3526560" y="2995200"/>
            <a:ext cx="366840" cy="2206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7"/>
          <p:cNvSpPr/>
          <p:nvPr/>
        </p:nvSpPr>
        <p:spPr>
          <a:xfrm>
            <a:off x="2362320" y="3962520"/>
            <a:ext cx="3657600" cy="6426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d5c5"/>
                </a:solidFill>
                <a:latin typeface="Arial"/>
              </a:rPr>
              <a:t>2.  Click attach. The title should appear on the list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2743200" y="5257800"/>
            <a:ext cx="2666880" cy="36828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ce6"/>
                </a:solidFill>
                <a:latin typeface="Arial"/>
              </a:rPr>
              <a:t>3.  Click OK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038480" y="2362320"/>
            <a:ext cx="4800600" cy="6426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d5c5"/>
                </a:solidFill>
                <a:latin typeface="Arial"/>
              </a:rPr>
              <a:t>1.  Click Browse.  Find the location where you saved the attachment &amp; click ‘open.’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5257800" y="1752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164"/>
                </a:solidFill>
                <a:latin typeface="Arial"/>
              </a:rPr>
              <a:t>3 Steps: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1219320" y="1676520"/>
            <a:ext cx="2666880" cy="91692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0ece6"/>
                </a:solidFill>
                <a:latin typeface="Arial"/>
              </a:rPr>
              <a:t>Use this button, if the attachment is stored in your digital locker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8" name="Picture 5" descr="C:\Program Files\Microsoft Office\MEDIA\OFFICE12\Bullets\BD21298_.gif"/>
          <p:cNvPicPr/>
          <p:nvPr/>
        </p:nvPicPr>
        <p:blipFill>
          <a:blip r:embed="rId5"/>
          <a:stretch/>
        </p:blipFill>
        <p:spPr>
          <a:xfrm rot="7945800">
            <a:off x="784440" y="2308680"/>
            <a:ext cx="366840" cy="2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6"/>
          <a:stretch/>
        </p:blipFill>
        <p:spPr>
          <a:xfrm>
            <a:off x="6477120" y="3048120"/>
            <a:ext cx="2290680" cy="1676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C:\Program Files\Microsoft Office\MEDIA\OFFICE12\Bullets\BD21298_.gif"/>
          <p:cNvPicPr/>
          <p:nvPr/>
        </p:nvPicPr>
        <p:blipFill>
          <a:blip r:embed="rId7"/>
          <a:stretch/>
        </p:blipFill>
        <p:spPr>
          <a:xfrm rot="1912800">
            <a:off x="8059320" y="4117680"/>
            <a:ext cx="368280" cy="2206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8"/>
          <p:cNvSpPr/>
          <p:nvPr/>
        </p:nvSpPr>
        <p:spPr>
          <a:xfrm>
            <a:off x="1447920" y="6172200"/>
            <a:ext cx="4190760" cy="3682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12164"/>
                </a:solidFill>
                <a:latin typeface="Arial"/>
              </a:rPr>
              <a:t>Finish writing and send the message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2" name="TextBox 19"/>
          <p:cNvSpPr/>
          <p:nvPr/>
        </p:nvSpPr>
        <p:spPr>
          <a:xfrm>
            <a:off x="533520" y="5715000"/>
            <a:ext cx="4647960" cy="3682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12164"/>
                </a:solidFill>
                <a:latin typeface="Arial"/>
              </a:rPr>
              <a:t>An attachment cannot be larger than 15 MB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5543280" cy="1762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Opening an Attachmen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457200" y="1905120"/>
            <a:ext cx="3276720" cy="11912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d5c5"/>
                </a:solidFill>
                <a:latin typeface="Arial"/>
              </a:rPr>
              <a:t>Click on the attachment while viewing messag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85800" y="5486400"/>
            <a:ext cx="7772400" cy="8254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*REMEMBER: NEVER open an attachment that you do not recognize!  This is a common way to ‘catch’ a virus!*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7" name="Picture 5" descr="C:\Program Files\Microsoft Office\MEDIA\OFFICE12\Bullets\BD21298_.gif"/>
          <p:cNvPicPr/>
          <p:nvPr/>
        </p:nvPicPr>
        <p:blipFill>
          <a:blip r:embed="rId2"/>
          <a:stretch/>
        </p:blipFill>
        <p:spPr>
          <a:xfrm rot="1492200">
            <a:off x="2563560" y="4074840"/>
            <a:ext cx="61416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Opening an Attachmen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4838760" cy="43434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3"/>
          <p:cNvSpPr/>
          <p:nvPr/>
        </p:nvSpPr>
        <p:spPr>
          <a:xfrm>
            <a:off x="457200" y="1981080"/>
            <a:ext cx="266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hould you open or save the attachment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f you save, where will you save the file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2</cp:lastModifiedBy>
  <dcterms:modified xsi:type="dcterms:W3CDTF">2007-03-03T15:48:18Z</dcterms:modified>
  <cp:revision>23</cp:revision>
  <dc:subject/>
  <dc:title>Workshop Title</dc:title>
</cp:coreProperties>
</file>